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5.jpeg" ContentType="image/jpeg"/>
  <Override PartName="/ppt/media/image53.png" ContentType="image/png"/>
  <Override PartName="/ppt/media/image58.jpeg" ContentType="image/jpeg"/>
  <Override PartName="/ppt/media/image56.png" ContentType="image/png"/>
  <Override PartName="/ppt/media/image44.png" ContentType="image/png"/>
  <Override PartName="/ppt/media/image40.jpeg" ContentType="image/jpeg"/>
  <Override PartName="/ppt/media/image38.jpeg" ContentType="image/jpeg"/>
  <Override PartName="/ppt/media/image9.png" ContentType="image/png"/>
  <Override PartName="/ppt/media/image57.jpeg" ContentType="image/jpeg"/>
  <Override PartName="/ppt/media/image37.jpeg" ContentType="image/jpeg"/>
  <Override PartName="/ppt/media/image12.jpeg" ContentType="image/jpeg"/>
  <Override PartName="/ppt/media/image10.gif" ContentType="image/gif"/>
  <Override PartName="/ppt/media/image54.jpeg" ContentType="image/jpeg"/>
  <Override PartName="/ppt/media/image13.png" ContentType="image/png"/>
  <Override PartName="/ppt/media/image36.jpeg" ContentType="image/jpeg"/>
  <Override PartName="/ppt/media/image35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39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332-0F50-4F84-9DD0-D980AD99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DEA-3A32-4C39-9AA0-5EA148D3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4AD-64BD-4DA4-85DC-90940BC9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69E-E41A-47D9-8FD7-A02FBE97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092A-6B3E-4904-B3C3-B31BA80C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545D-2954-4BC4-97CE-18C8F229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C120-C3DA-48EF-AEB9-EC655C4E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5793-7345-45AB-9150-2EEC11DC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C45A-0DE7-4B1A-94BC-DBC527E3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F741-315C-44EC-909E-267F908F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5F0F-31DC-4D7A-832A-13D28CAA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0A9-C992-4FBA-B4B8-A99AEC0F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BF7A-AF95-47A7-9B06-026BEE7E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65F4-1BB1-4761-9204-BDE1D2B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827C-C902-44D5-90D3-D913812A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B78E-DC18-4D91-80D9-3E65CD86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3E1B-B3C8-499C-A744-86B17A3B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1C62-0E2D-41DF-844F-E1FEA248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E225-1774-4594-B539-74FD3B0E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9B7A-9F1B-45CB-8157-A354DA8C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9FD5-8746-4941-B644-6ADF311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CC56-E733-4101-925E-8D1E305D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0E6-309B-4F4C-B9CB-F3DBB545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D9AD-6ECF-4590-8AF2-97F0C80D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5E48-204E-41B8-92A2-3BF0405C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9A60-0724-4C33-960E-70A6FC7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866E-6BCC-4E6F-B56E-3D73B420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5FFC6-E010-4472-91B5-DFDCEE1B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E22B-BA51-4005-A516-3B46F300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AA43-067B-4CA7-8DEC-30BAD8E0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C079B-699B-45EC-AFBC-AC7C51CD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F8F7-ED2D-43BE-B5EF-0FF4AC5B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9CA5-48A0-4BD6-B7DB-5CD9C3C4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65D-1BF3-486A-9736-C9E20480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7E6B7-9070-4038-BB50-1EA84AC9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B67D-EB0E-4624-A03F-45FD657F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C95F8-7723-4489-AF2B-9E8DF707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C977-7C04-4AE1-9B86-381A309B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582E-4C80-4F9E-B014-8C49D7D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514C-0183-45C9-B0C0-31636A2A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10A9E-B284-4C5F-9CF9-375577CF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E387-9B5E-427C-BB87-DF2D202A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56D4E-132C-413E-B5BD-732F5B13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B9642-8200-46DD-8DD5-E1C1B07A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BBC-300C-4A2E-A4CD-DAF3D518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6FE7-DB53-47A0-8DC6-719B297B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5031F-6098-4700-9CF2-8974282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4662D-4E6E-4811-9832-70D45927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5B7DB-E49A-462D-A4F3-148AD4D9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F1A9-5950-4C96-8842-2EA2B8AF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8CB7-0E06-4DD9-8005-F43CAF6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9AEE3-8415-4E10-9430-3E8D8236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7A227-3CF2-4267-81E4-2B8E04DF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0E0AD-265C-43EA-A3E6-C1D43B7F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F5560-2D6F-456C-AE9B-C506C0D2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CF8-A0CA-4243-83AB-A29061D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CEA0-1D5A-4406-AFE2-F02C474B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0D5-DDBE-4384-A362-F3CE89DE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486-1131-4E24-925D-0AA14CB7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B67-050C-4B51-BB27-B4E96401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A496-ABBB-4E93-B78A-F86CD42915C2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7489-D47A-4F29-9965-53C83896A67A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57E7-51ED-4BB3-9EDF-77E8405F99D3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D378-9717-48FA-9EC5-5C8CC91AD70F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2D0-7260-4CE4-9915-8022E3B836DD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4"/>
          <p:cNvSpPr/>
          <p:nvPr/>
        </p:nvSpPr>
        <p:spPr>
          <a:xfrm>
            <a:off x="357120" y="392904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Гальванические эле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6" descr="Batteries.jpg"/>
          <p:cNvPicPr/>
          <p:nvPr/>
        </p:nvPicPr>
        <p:blipFill>
          <a:blip r:embed="rId1"/>
          <a:stretch/>
        </p:blipFill>
        <p:spPr>
          <a:xfrm>
            <a:off x="2428920" y="107172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ris4.jpg"/>
          <p:cNvPicPr/>
          <p:nvPr/>
        </p:nvPicPr>
        <p:blipFill>
          <a:blip r:embed="rId2"/>
          <a:stretch/>
        </p:blipFill>
        <p:spPr>
          <a:xfrm>
            <a:off x="714240" y="10717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il3c.jpg"/>
          <p:cNvPicPr/>
          <p:nvPr/>
        </p:nvPicPr>
        <p:blipFill>
          <a:blip r:embed="rId3"/>
          <a:stretch/>
        </p:blipFill>
        <p:spPr>
          <a:xfrm>
            <a:off x="6786720" y="1071720"/>
            <a:ext cx="17762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batraz.jpg"/>
          <p:cNvPicPr/>
          <p:nvPr/>
        </p:nvPicPr>
        <p:blipFill>
          <a:blip r:embed="rId1"/>
          <a:stretch/>
        </p:blipFill>
        <p:spPr>
          <a:xfrm>
            <a:off x="928800" y="1285920"/>
            <a:ext cx="3382920" cy="3000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2" descr="bateryinside.gif"/>
          <p:cNvPicPr/>
          <p:nvPr/>
        </p:nvPicPr>
        <p:blipFill>
          <a:blip r:embed="rId2"/>
          <a:stretch/>
        </p:blipFill>
        <p:spPr>
          <a:xfrm>
            <a:off x="4643280" y="107172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1441800" y="42876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гальван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357120" y="457776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ический элемен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источник тока, в котором электрическая энергия вырабатывается в результате прямого преобразования химической энергии окислительно-восстановительной реа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3"/>
          <p:cNvSpPr/>
          <p:nvPr/>
        </p:nvSpPr>
        <p:spPr>
          <a:xfrm>
            <a:off x="1727640" y="50004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ток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лого века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гальванических элементов можно составить </a:t>
            </a:r>
            <a:r>
              <a:rPr b="1" i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батар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4" descr="9294.jpg"/>
          <p:cNvPicPr/>
          <p:nvPr/>
        </p:nvPicPr>
        <p:blipFill>
          <a:blip r:embed="rId1"/>
          <a:stretch/>
        </p:blipFill>
        <p:spPr>
          <a:xfrm>
            <a:off x="1285920" y="264312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7" descr="il3a.jpg"/>
          <p:cNvPicPr/>
          <p:nvPr/>
        </p:nvPicPr>
        <p:blipFill>
          <a:blip r:embed="rId2"/>
          <a:stretch/>
        </p:blipFill>
        <p:spPr>
          <a:xfrm>
            <a:off x="1357200" y="4929120"/>
            <a:ext cx="2811600" cy="1285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1"/>
          <p:cNvSpPr/>
          <p:nvPr/>
        </p:nvSpPr>
        <p:spPr>
          <a:xfrm>
            <a:off x="500040" y="435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элемент питания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иходное название источника электричества для автономного питания портативного устройства. Может представлять собой одиночный гальванический элемент, аккумулятор или их соединение в батарею для увеличения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6" descr="il2.jpg"/>
          <p:cNvPicPr/>
          <p:nvPr/>
        </p:nvPicPr>
        <p:blipFill>
          <a:blip r:embed="rId3"/>
          <a:stretch/>
        </p:blipFill>
        <p:spPr>
          <a:xfrm>
            <a:off x="3786120" y="2571840"/>
            <a:ext cx="1495440" cy="24685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0" descr="il4b.jpg"/>
          <p:cNvPicPr/>
          <p:nvPr/>
        </p:nvPicPr>
        <p:blipFill>
          <a:blip r:embed="rId4"/>
          <a:stretch/>
        </p:blipFill>
        <p:spPr>
          <a:xfrm rot="768600">
            <a:off x="5074920" y="31460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571680" y="7858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мический источник тока многоразового действия. Если поместить в раствор соли два угольных электрода, то гальванометр не показывает наличие тока. Если же аккумулятор предварительно зарядить, то его можно использовать в качестве самостоятельного источника тока. Существуют различные типы аккумуляторов: кислотные и щелочные.  Заряды в них разделяются также в результате химических ре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075120" y="35712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аккумуляторы используются для накопления энергии и автономного питания различных потреб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Рисунок 2" descr="Titan.jpg"/>
          <p:cNvPicPr/>
          <p:nvPr/>
        </p:nvPicPr>
        <p:blipFill>
          <a:blip r:embed="rId1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иратель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 для накопления энергии с целью ее последующ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4" descr="32_2.jpg"/>
          <p:cNvPicPr/>
          <p:nvPr/>
        </p:nvPicPr>
        <p:blipFill>
          <a:blip r:embed="rId2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5" descr="Gara_206058.jpg"/>
          <p:cNvPicPr/>
          <p:nvPr/>
        </p:nvPicPr>
        <p:blipFill>
          <a:blip r:embed="rId3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7" descr="p_7.jpg"/>
          <p:cNvPicPr/>
          <p:nvPr/>
        </p:nvPicPr>
        <p:blipFill>
          <a:blip r:embed="rId4"/>
          <a:stretch/>
        </p:blipFill>
        <p:spPr>
          <a:xfrm>
            <a:off x="4143240" y="5716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2.jpg"/>
          <p:cNvPicPr/>
          <p:nvPr/>
        </p:nvPicPr>
        <p:blipFill>
          <a:blip r:embed="rId5"/>
          <a:stretch/>
        </p:blipFill>
        <p:spPr>
          <a:xfrm>
            <a:off x="1714680" y="1143000"/>
            <a:ext cx="168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2"/>
          <p:cNvSpPr/>
          <p:nvPr/>
        </p:nvSpPr>
        <p:spPr>
          <a:xfrm>
            <a:off x="2343240" y="404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аккуму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"/>
          <p:cNvSpPr/>
          <p:nvPr/>
        </p:nvSpPr>
        <p:spPr>
          <a:xfrm>
            <a:off x="468360" y="51577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сточники тока, обозначенные цифрами 1, 2, 3, 4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428760" y="1214280"/>
          <a:ext cx="8143920" cy="5475600"/>
        </p:xfrm>
        <a:graphic>
          <a:graphicData uri="http://schemas.openxmlformats.org/drawingml/2006/table">
            <a:tbl>
              <a:tblPr/>
              <a:tblGrid>
                <a:gridCol w="2357280"/>
                <a:gridCol w="2649600"/>
                <a:gridCol w="3137040"/>
              </a:tblGrid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Источник т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об разделения заря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4208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эле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с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нечные батаре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 спа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е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механи-ческий генер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ие механическ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ромышленной электрической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ический 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арики, радиоприем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умулято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Rectangle 1"/>
          <p:cNvSpPr/>
          <p:nvPr/>
        </p:nvSpPr>
        <p:spPr>
          <a:xfrm>
            <a:off x="928800" y="3664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сификация источников 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9"/>
          <p:cNvSpPr/>
          <p:nvPr/>
        </p:nvSpPr>
        <p:spPr>
          <a:xfrm>
            <a:off x="324000" y="189000"/>
            <a:ext cx="8820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ые малогабаритные аккумуляторы (ГМА)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используются для малогабаритных потребителей электрической энергии (телефонные радиотрубки, переносные радиоприемники, электронные часы, измерительные приборы, сотовые телефоны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еский ток – упорядоченное движение заряженных час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786040" y="1071720"/>
            <a:ext cx="3218040" cy="27414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571680" y="4786200"/>
            <a:ext cx="8572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уществования электрического тока необходимы следующи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вободных электрических зарядов в провод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ешнего электрического поля для прово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4" descr="09g-i3.gif"/>
          <p:cNvPicPr/>
          <p:nvPr/>
        </p:nvPicPr>
        <p:blipFill>
          <a:blip r:embed="rId2"/>
          <a:stretch/>
        </p:blipFill>
        <p:spPr>
          <a:xfrm>
            <a:off x="500040" y="1000080"/>
            <a:ext cx="1928880" cy="27781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09g-i3.gif"/>
          <p:cNvPicPr/>
          <p:nvPr/>
        </p:nvPicPr>
        <p:blipFill>
          <a:blip r:embed="rId3"/>
          <a:stretch/>
        </p:blipFill>
        <p:spPr>
          <a:xfrm>
            <a:off x="6357960" y="1000080"/>
            <a:ext cx="1928880" cy="28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7"/>
          <p:cNvSpPr/>
          <p:nvPr/>
        </p:nvSpPr>
        <p:spPr>
          <a:xfrm>
            <a:off x="971640" y="642960"/>
            <a:ext cx="720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 источников т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боры, изображённые на рису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1501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9"/>
          <p:cNvSpPr/>
          <p:nvPr/>
        </p:nvSpPr>
        <p:spPr>
          <a:xfrm>
            <a:off x="2144880" y="578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4716720" y="59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4573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653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6216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428760" y="357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опыты, показанные на рису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и чем отличаются опы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 то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устройство, в котором происходит преобразование какого-либо вида энергии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428760" y="5572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, разделяющие заряды, т.е. создающие электрическое поле,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ами т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571680" y="723960"/>
            <a:ext cx="585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электрическая батарея появилась в 1799 году. Её изобрел итальянский физик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итальянский физик, химик и физиолог, изобретатель источника постоянного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4481640" y="1450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357280" y="3297240"/>
            <a:ext cx="64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ервый источник тока – «вольтов столб» – был построен в точном соответствии с его теорией «металлического» электричества. Вольта положил друг на друга попеременно несколько десятков небольших цинковых и серебряных кружочков, проложив меж ними бумагу, смоченную подсоленной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481640" y="206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ий источник тока - механическа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2" descr="http://school.ort.spb.ru/library/physics/8class/tema_2/lesson_1/electrof_3_s.jpg"/>
          <p:cNvPicPr/>
          <p:nvPr/>
        </p:nvPicPr>
        <p:blipFill>
          <a:blip r:embed="rId1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XVIII века все технические источники тока были основаны на электризации трением. Наиболее эффективным из этих источников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ся во вращение в противоположных направлениях; в результате трения щеток о диски на кондукторах машины накапливаются заряды противоположного зна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2451240" y="42876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ой источник тока – внутрення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" descr="http://school.ort.spb.ru/library/physics/8class/tema_2/lesson_1/term_para_s.jpg"/>
          <p:cNvPicPr/>
          <p:nvPr/>
        </p:nvPicPr>
        <p:blipFill>
          <a:blip r:embed="rId1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3643200" y="1214280"/>
            <a:ext cx="47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проволоки из разных металлов спаять с одного края, а затем нагреть место спая, то в них возникает ток – заряды при нагревании спая разделяются. Термоэлементы применяются в термодатчиках и на геотермальных электростанциях в качестве датчика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3319200" y="455760"/>
            <a:ext cx="45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элемент (термоп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 света c помощью солнечных батарей преобразу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2" descr="http://school.ort.spb.ru/library/physics/8class/tema_2/lesson_1/solar_s.jpg"/>
          <p:cNvPicPr/>
          <p:nvPr/>
        </p:nvPicPr>
        <p:blipFill>
          <a:blip r:embed="rId1"/>
          <a:stretch/>
        </p:blipFill>
        <p:spPr>
          <a:xfrm>
            <a:off x="642960" y="3143160"/>
            <a:ext cx="2571840" cy="22147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3"/>
          <p:cNvSpPr/>
          <p:nvPr/>
        </p:nvSpPr>
        <p:spPr>
          <a:xfrm>
            <a:off x="1150560" y="34290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708360" y="1231200"/>
            <a:ext cx="485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вещении некоторых веществ светом, в них появляется ток – световая энергия превраща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приборе заряды разделяются под действием света.  Фотоэлементы применяются в солнечных батареях, световых датчиках, калькуляторах, ви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4437000" y="4287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642960" y="785880"/>
            <a:ext cx="2571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571680" y="121860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механический генератор. Заряды разделяются путем совершения механической работы. Применяется для производства промышленной электро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944000" y="50004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механическ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итель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, аппарат или машина, производящая какой-либо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4289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116000" y="62064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7237440" y="595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73108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997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71680" y="31431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сточники тока вы видите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31:22Z</dcterms:created>
  <dc:creator>Александрова З.В., учитель физики и информатики МОУ СОШ № 5 п.Печенга, Мурм. обл.</dc:creator>
  <dc:description/>
  <dc:language>en-US</dc:language>
  <cp:lastModifiedBy>Admin</cp:lastModifiedBy>
  <dcterms:modified xsi:type="dcterms:W3CDTF">2012-12-19T10:44:09Z</dcterms:modified>
  <cp:revision>112</cp:revision>
  <dc:subject>Электрический ток. Источники электрического тока.8 кл.</dc:subject>
  <dc:title>Источники тока.</dc:title>
</cp:coreProperties>
</file>